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B01-E9A6-42B6-B343-6231DC50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56B-DE8E-4A70-9F10-9D37CE1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97F-6668-4A65-8EFE-F9D1D003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36D-4249-4EDF-AA76-457B4A10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39103-CAD4-4753-A526-A7C46C04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41A22-4905-46B9-A113-35502826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1083-1B51-4D52-92AB-12233168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847D6-FB68-490D-B899-236E542A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90525-E8D4-446E-A1DA-0D1F77E0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A7C53-485D-42E3-AE1B-18F86401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116B0-DAA8-4C84-96E5-E573FCC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B6A-71A2-4C51-AE59-4773C613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7C672-C850-43B6-9DE4-874BAC80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40976-A2C8-4DA7-BAEC-34B6283E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04EEB-3C12-4967-8E1C-2D0A7384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F049A-9526-452A-B02E-50632627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32E61-5401-49BA-8511-A2ADA71D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EBF-776F-4D9C-AFB5-7F2F5C71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FEA-0CA1-4DB2-B512-9B36D97C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433-547D-44A2-925E-8FF3BC29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660-0BF9-4889-BC54-9DD94B8E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B1B-B3BA-433C-B14F-948129B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020-1F6B-499B-9433-CEA43B9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DD4-F183-45BE-A805-D775A372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EE9D-285F-4C1C-9F52-264DDFDD3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1C91-0A4C-43D0-8F14-A7DC6BFD1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Rounded MT Bold"/>
              </a:rPr>
              <a:t>Las comid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Rockwell Extra Bold"/>
              </a:rPr>
              <a:t>Por: Mikayla Tirabass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Rockwell Extra Bold"/>
              </a:rPr>
              <a:t>El Desayun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Para el desayuno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toci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819520" y="274320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19520" y="4724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952880" y="274320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5288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006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724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858000" y="274320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0" y="4648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Fre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809880" y="5105520"/>
            <a:ext cx="1524240" cy="128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05320" y="6491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hocolate con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ahoma"/>
              </a:rPr>
              <a:t>El almuerz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ahoma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1676520" cy="1523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3962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queso a la plan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6400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086600" y="2057400"/>
            <a:ext cx="1766880" cy="1557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0572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hamburguesa de qu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934320" y="4419720"/>
            <a:ext cx="144756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81680" y="6216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dedos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2895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2900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ca co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9900ff"/>
                </a:solidFill>
                <a:latin typeface="Tahoma"/>
              </a:rPr>
              <a:t>La Cen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ahoma"/>
              </a:rPr>
              <a:t>Para la cena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86200" y="2514600"/>
            <a:ext cx="2457360" cy="1857240"/>
            <a:chOff x="3886200" y="2514600"/>
            <a:chExt cx="2457360" cy="1857240"/>
          </a:xfrm>
        </p:grpSpPr>
        <p:sp>
          <p:nvSpPr>
            <p:cNvPr id="115" name=""/>
            <p:cNvSpPr txBox="1"/>
            <p:nvPr/>
          </p:nvSpPr>
          <p:spPr>
            <a:xfrm>
              <a:off x="3886200" y="2514600"/>
              <a:ext cx="2457360" cy="18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2514600"/>
            <a:ext cx="1628640" cy="1424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7160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file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243828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62520" y="4114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espague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172200" y="24382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286000" y="4724280"/>
            <a:ext cx="1600200" cy="1495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81080" y="6248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huleta de cer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334120" y="4724280"/>
            <a:ext cx="1371600" cy="1524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81480" y="6324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ahoma"/>
              </a:rPr>
              <a:t>El post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a el postre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1752480" cy="1181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s brown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00400" y="2590920"/>
            <a:ext cx="1495440" cy="123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4114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ventisca o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638680" y="2590920"/>
            <a:ext cx="1524240" cy="1218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5780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alleta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438280" y="4800600"/>
            <a:ext cx="1462320" cy="1162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0" y="6248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6248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elado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5257800" y="4648320"/>
            <a:ext cx="1562040" cy="152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814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15:04Z</dcterms:created>
  <dc:creator>tirabassimik</dc:creator>
  <dc:description/>
  <dc:language>en-US</dc:language>
  <cp:lastModifiedBy>tirabassimik</cp:lastModifiedBy>
  <dcterms:modified xsi:type="dcterms:W3CDTF">2011-04-14T18:09:01Z</dcterms:modified>
  <cp:revision>7</cp:revision>
  <dc:subject/>
  <dc:title>Las comidas</dc:title>
</cp:coreProperties>
</file>